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D0A-F446-4198-A49E-471B8188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C61-1C93-4FD0-92B3-A036D751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298-302E-41AC-93F7-88421029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2E4-D822-487D-A249-4E900477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B15-29DE-48EC-945C-91C004FB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0F7-EF71-410B-AC17-B65D979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3F6-A456-464E-9072-4129803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4EF-3840-4998-9141-9D11D33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5EA-D1D1-4671-9C06-B220D5D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BFE-A6C1-4CF5-B91A-C256360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944-2283-41A4-810E-AAF6B49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6B9-6CC9-4A03-BBE4-5F1D24F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C318-E58D-44E6-BE85-0718EB63A6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18T05:45:47Z</dcterms:modified>
  <cp:revision>807</cp:revision>
  <dc:subject/>
  <dc:title>Free PPT Backgrounds</dc:title>
</cp:coreProperties>
</file>